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643-9756-4347-B8A9-D2CA6397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276-5F0D-4EFF-B413-C2884A3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D79-3E5C-4708-ADBF-439162D0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B25-5708-4A41-B066-527C0358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206-DD62-4D81-978B-7013370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B5E-87DB-48FE-B845-47A6BB1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44D-BFEC-44F3-A02A-DFD119E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17F-FEBD-474A-94E4-EA99D0AB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505-6444-49B8-B4F4-A124E571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98E-E763-4259-8B86-B910567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139-0D83-48DA-82AA-E088AAFB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A29-45D6-418D-A29D-CEEF2F8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793-3544-421E-98BD-FF51C478E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ongan lo que significan los modismos en contex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estar enfermo Pablo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uardó cam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tres días la semana pasada.  Su hermano Paco, sin embargo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, goza d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ena salud y nunca está enfer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proba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i comida antes de ponerle sal. Siempre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pruebo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 abrigo antes de comprar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los profesores nunca le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sobr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iempo para preparar las clases.  El lunes comemo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las sobr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 las comidas del doming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es de comer yo mismo,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le doy de com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mi perro,  Pero nunca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lo agrade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os pantalone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te aprieta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o. İAdemás, su color repugnante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da asc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egos de palabras: ¿cuál es la diferenc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s cuartos tiene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incone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las calles tien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squina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n el cubo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agujer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dondos por donde salen chorros de agua.  En la paredes ruinosas de un catedral hay muchas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griet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En la tierra y en los campos de golf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hoy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dond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tiquet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esta chaqueta de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tiquet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ice que es del Corte Inglé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l cuarto tiene cuatro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parede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pero la casa puede tener varios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mur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exteriores.  Alrededor de la casa a veces se encuentra una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 cerca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o muy alt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 parte el pan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ebanad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el jamón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lon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otras carnes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tajad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oda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fiambres, 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a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queso, pescado y fruta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suelo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l baño del segundo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piso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está mojad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smos / Juegos de palab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uardó c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za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prueb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o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as sob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 doy de c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lo agrade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e aprie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da as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inc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squ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guj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ri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y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are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u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a cer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ban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on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aj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oda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a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u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7:20:50Z</dcterms:created>
  <dc:creator>Jefferson County Public Schools</dc:creator>
  <dc:description/>
  <dc:language>en-US</dc:language>
  <cp:lastModifiedBy>Jefferson County Public Schools</cp:lastModifiedBy>
  <dcterms:modified xsi:type="dcterms:W3CDTF">2010-08-31T19:59:02Z</dcterms:modified>
  <cp:revision>9</cp:revision>
  <dc:subject/>
  <dc:title>Supongan lo que significan los modismos en contexto…</dc:title>
</cp:coreProperties>
</file>